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22945"/>
        <c:axId val="13418229"/>
      </c:barChart>
      <c:catAx>
        <c:axId val="83022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18229"/>
        <c:crosses val="autoZero"/>
        <c:auto val="1"/>
        <c:lblAlgn val="ctr"/>
        <c:lblOffset val="100"/>
        <c:noMultiLvlLbl val="0"/>
      </c:catAx>
      <c:valAx>
        <c:axId val="13418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22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461-A2EB-4283-B195-27E9D83F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531-BA07-47D1-ACB4-EEF92D61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50E-BF9C-4CDE-8EB7-5500A0AB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3C5-5808-40DD-9D4A-CA50410F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7DE7-F903-4877-BADD-B93DD566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64BA-C825-43BB-8CA1-5104108E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39B-E1F6-438F-ADD0-ACE3464F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F00-07BB-4583-A215-DA5844A7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171B-5DA3-4801-B353-F035C4FE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786-CE7E-4E47-869A-051027D5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038-E7EE-4060-A332-79ACB52B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B9AE-28CC-4A71-B723-2FE7D7DD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6BC22-8507-467D-AF0D-DB0155A7D4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