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98516"/>
        <c:axId val="85053589"/>
      </c:barChart>
      <c:catAx>
        <c:axId val="85098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53589"/>
        <c:crosses val="autoZero"/>
        <c:auto val="1"/>
        <c:lblAlgn val="ctr"/>
        <c:lblOffset val="100"/>
        <c:noMultiLvlLbl val="0"/>
      </c:catAx>
      <c:valAx>
        <c:axId val="85053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98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A57-A79A-4DF9-B6D6-5FFAF088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6F2-9314-4025-A020-364A7E86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DB6-23D6-4F78-8BFD-A6FF07D2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1B5-16D0-4DB8-B577-CAA91D8A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D42-B0F9-4E57-B0EB-5EDB49D7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CFC-26A7-4192-A8DF-54C451D6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578-077F-4561-97DE-8FB69FB0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22E-BED1-4B8E-AE57-17BA2580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1B9B-C2A7-4A1A-BA33-58E884C6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2B2-319F-4CC9-9293-EA6698C3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55AC-4888-49E5-8298-2C54D700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88F-0510-488D-84B2-A8E78988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382EC-F662-4BAD-B4E5-77B89A9E71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