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78754"/>
        <c:axId val="23992718"/>
      </c:barChart>
      <c:catAx>
        <c:axId val="221787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92718"/>
        <c:crosses val="autoZero"/>
        <c:auto val="1"/>
        <c:lblAlgn val="ctr"/>
        <c:lblOffset val="100"/>
        <c:noMultiLvlLbl val="0"/>
      </c:catAx>
      <c:valAx>
        <c:axId val="239927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787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DE40-6C31-4268-B740-D4BD9609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4971-04B5-4C87-AB38-0A644EF2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95F2-B72F-48F9-873E-21FE49E2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16AA-E16B-439B-843E-EC04AFAB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2DF-9B91-4146-8EA2-93C8A2D8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12B7-9F70-412A-BB34-7F96E61F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4791-8D36-47B4-829D-DCAF2DE8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4B8C-7638-4046-B5DC-C0DB5CED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3C89-F622-4EE8-B043-20B04BF8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53D6-80B8-48CC-B0A8-0E049504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CC01-94B4-4E42-BF50-2F1D8CF7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D604-720B-4C90-B79A-EF021EB9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D9E7D-B2FF-464A-82BD-0A36E08CA0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