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75272"/>
        <c:axId val="58572499"/>
      </c:barChart>
      <c:catAx>
        <c:axId val="78075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2499"/>
        <c:crosses val="autoZero"/>
        <c:auto val="1"/>
        <c:lblAlgn val="ctr"/>
        <c:lblOffset val="100"/>
        <c:noMultiLvlLbl val="0"/>
      </c:catAx>
      <c:valAx>
        <c:axId val="58572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75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9FC-90A0-4C5E-B6E2-7C0D9773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C85-5F1B-4CE5-9AA4-448B14BA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99B-143F-4D4A-8E74-69C19F4E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D61-265B-49C1-A6B6-9FDEF237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598-288D-480E-8F42-28D996FE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6D8-08FA-4F33-8D32-AEA39D78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37C-98C0-4D86-85F3-E5483ED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CB9-51B1-4EDB-A3B7-5C4B3B90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36E-BF9C-45A2-80EB-B48D3AB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618-A4E2-462F-A551-755271F1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1C2-4326-4938-9939-1B5DC77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07C-353D-47DC-95D1-29287FD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7CFF0-DD2E-42E7-8215-7E99E19587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