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29087"/>
        <c:axId val="87842549"/>
      </c:barChart>
      <c:catAx>
        <c:axId val="19529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42549"/>
        <c:crosses val="autoZero"/>
        <c:auto val="1"/>
        <c:lblAlgn val="ctr"/>
        <c:lblOffset val="100"/>
        <c:noMultiLvlLbl val="0"/>
      </c:catAx>
      <c:valAx>
        <c:axId val="87842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29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269-C38D-4273-BB38-1957C51D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57C8-2573-4A9A-8F25-9C1DD4EB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1F3-D274-4C88-952F-E71CA51C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9748-EA49-4567-B0FD-577ADB2DB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690-E484-4ACA-95E0-40313FFC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490-7C0D-4948-805F-37EF432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632-B9D6-43FF-BC25-2D5F8B4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FD7-6DED-4B9D-948F-8E789FF0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94C-6A6C-49AA-9DB5-6D03E528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D29-0C44-430D-9966-BB3EC7E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62C-19CD-40BA-9D62-AE78C7B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696-56CF-4D8E-9725-64A0901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68FF8-7E4D-4D23-AC5B-DC8EC11FED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