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49854"/>
        <c:axId val="91571991"/>
      </c:barChart>
      <c:catAx>
        <c:axId val="21749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71991"/>
        <c:crosses val="autoZero"/>
        <c:auto val="1"/>
        <c:lblAlgn val="ctr"/>
        <c:lblOffset val="100"/>
        <c:noMultiLvlLbl val="0"/>
      </c:catAx>
      <c:valAx>
        <c:axId val="91571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49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D94-073B-481F-A289-70A03EA0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337-B23D-4A99-B378-CDCD4489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972-7074-4159-B4E6-51D3C11C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592-E9DD-454E-9F70-D3EB1088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24B-BF14-42C1-9ADA-5CC04296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134-53E3-4888-B26C-82C57799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7E4-D24B-4938-8DB5-76B429D3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C99-1F72-42B1-80AF-EFE3C8F1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B45-272D-4B2C-8CBE-A2F7E482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5BF-978B-476A-8B08-7767C65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2C2-1ACB-4C6A-A456-E46CBDD2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F39-D349-43EF-B850-B94D99F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55268-E3F8-48F4-B96D-E55B662D6B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