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399377"/>
        <c:axId val="64452302"/>
      </c:barChart>
      <c:catAx>
        <c:axId val="623993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52302"/>
        <c:crosses val="autoZero"/>
        <c:auto val="1"/>
        <c:lblAlgn val="ctr"/>
        <c:lblOffset val="100"/>
        <c:noMultiLvlLbl val="0"/>
      </c:catAx>
      <c:valAx>
        <c:axId val="644523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993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F515-B0D0-4994-8955-27E048E8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1F76-B23D-4650-944E-44289A6E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7BE0-1CEF-40C6-BB3D-F0937BD0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5465-8ED7-4BEB-8146-CEF84A20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8B42-87FE-494C-BB81-449DA211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1D1A-BE0C-4CD8-8F55-172D1FE0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44F7-3C8C-4E8F-815A-84CCAACE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EB90-983D-4BDB-A80A-CC7B7D7B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CBED-55AF-4928-B725-B4AF2A1C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DAFF-3EE6-41C9-A985-0FCB2703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CF09-5B66-4F56-9F0A-C36871D0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0F35-A10D-4584-AD8E-6B25DC1B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7DC7D-9937-4288-8DF1-3C2DB94F55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