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62598"/>
        <c:axId val="90573547"/>
      </c:barChart>
      <c:catAx>
        <c:axId val="829625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73547"/>
        <c:crosses val="autoZero"/>
        <c:auto val="1"/>
        <c:lblAlgn val="ctr"/>
        <c:lblOffset val="100"/>
        <c:noMultiLvlLbl val="0"/>
      </c:catAx>
      <c:valAx>
        <c:axId val="905735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625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471-43AA-421B-AC7A-2D5A12CB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3FB-629C-425C-A815-B0BEA8AF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3D03-00D3-4540-A5B5-CB1FC207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F09A-8F43-4B23-813E-AA1CEAF7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B47A-EE5D-4BDB-B333-630544DD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47C7-6D1F-44BA-A952-B3724FFA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3147-8009-45BD-9994-D4A35128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C35D-BDB5-40C7-BBD8-077CAD0E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4FDA-89FB-49A9-926C-A0F94EFC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D66C-8381-49EB-92D1-55F07808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CAC-E7C5-4A38-AF86-5631741F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3C1E-9469-46B7-98F7-7B1A06CF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7147D-F49D-486E-886F-D60FC69820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