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61032"/>
        <c:axId val="79248899"/>
      </c:barChart>
      <c:catAx>
        <c:axId val="17161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8899"/>
        <c:crosses val="autoZero"/>
        <c:auto val="1"/>
        <c:lblAlgn val="ctr"/>
        <c:lblOffset val="100"/>
        <c:noMultiLvlLbl val="0"/>
      </c:catAx>
      <c:valAx>
        <c:axId val="79248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1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D23-04EA-40A1-A679-B9B73D9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403-9A3B-4DAB-9B74-40BC351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D0A-EC5F-43DF-96F0-88748CD2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99F-70E9-4D58-8D32-2FEDA6C5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D45-B9D0-425B-905F-3D2137E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D29-F0C4-4144-AFE8-EF4F07A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B70-CA4A-4DD8-9744-F9E17FB8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C59-751A-4751-9021-6D09F104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A1E-B8E9-4F29-92B1-33999BC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A9A-2219-461F-B6AD-CA60F37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DAC-E355-4D9A-9778-738010C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3B5-F45F-4169-AE53-9726392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5A149-FF80-4B83-83D0-B4CF128A30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