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71555"/>
        <c:axId val="89672943"/>
      </c:barChart>
      <c:catAx>
        <c:axId val="57371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72943"/>
        <c:crosses val="autoZero"/>
        <c:auto val="1"/>
        <c:lblAlgn val="ctr"/>
        <c:lblOffset val="100"/>
        <c:noMultiLvlLbl val="0"/>
      </c:catAx>
      <c:valAx>
        <c:axId val="89672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1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3CE-5678-4F10-8908-6AE73110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D0B-9E9F-48FE-8499-DEFFE0B7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30A-84EE-4F95-97CF-8A9380E2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3FE-7E62-4D40-9C04-A8A67F48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45F-C1CD-4FAF-9BDE-D8A90C8D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2FA-E701-4BB3-B68F-563A3036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4CB-6509-4BBA-80A9-896F139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671-D480-4F93-996C-B924AF9B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914-EBC5-4D8E-A201-923F97D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803-2E09-41F2-B5C1-909DE02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618-606D-44F1-BC53-3BFF3E79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5B3-27E8-4AC7-A6B5-3A59EF0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36448-3513-4DEA-8F93-48CA16AAA6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