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915367"/>
        <c:axId val="78572725"/>
      </c:barChart>
      <c:catAx>
        <c:axId val="589153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72725"/>
        <c:crosses val="autoZero"/>
        <c:auto val="1"/>
        <c:lblAlgn val="ctr"/>
        <c:lblOffset val="100"/>
        <c:noMultiLvlLbl val="0"/>
      </c:catAx>
      <c:valAx>
        <c:axId val="785727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153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0FF2-8600-485E-91CA-1AEF26D12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898F-FFE4-48DB-A797-9AAF08D2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4399-D1A8-453B-BFE8-E53F097F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A5A5-D69E-4B29-8232-F2CAEBEA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255F-D5C1-4A0A-8BA3-76279199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20AF-0CD7-407B-A9FE-240F2E01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B09F-78A4-4CB5-BD70-24253DCB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6BF0-E450-4A08-AB50-1935828A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26FC-1D0D-458A-B3AD-1C607373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2222-FC21-456D-91FB-E150C2A3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A91-FD68-4B64-BDFB-4A7E2DD3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B20D-1B2A-49DD-99BE-388C33E9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DA7A5-7D49-41E0-BB2D-8101228854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