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93966"/>
        <c:axId val="27159370"/>
      </c:barChart>
      <c:catAx>
        <c:axId val="76793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59370"/>
        <c:crosses val="autoZero"/>
        <c:auto val="1"/>
        <c:lblAlgn val="ctr"/>
        <c:lblOffset val="100"/>
        <c:noMultiLvlLbl val="0"/>
      </c:catAx>
      <c:valAx>
        <c:axId val="27159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93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6E5-65AA-4927-9AF8-5FBA6E74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E4A-4EDB-44AF-AF6C-AC1BC082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27F-152F-4149-9170-69C0BE4D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FF2-7535-42BF-AC51-D3BA8F56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7E1-735D-4053-A9A3-110D655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359-97AA-4AEA-B3D7-EC9650BF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C42-87C3-43B0-88AF-C8F4D677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B8C-0EAF-4E11-8F2B-83304C47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12D-B13B-4AE4-BD48-130C599A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9C4-95AD-454B-8501-AE6D102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395-0627-46F7-BC5C-421C82BB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4A0-6274-4469-8632-6305C8A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7067B-E97D-4707-B8D0-BA7B921CB0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