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97821"/>
        <c:axId val="91620112"/>
      </c:barChart>
      <c:catAx>
        <c:axId val="4197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620112"/>
        <c:crosses val="autoZero"/>
        <c:auto val="1"/>
        <c:lblAlgn val="ctr"/>
        <c:lblOffset val="100"/>
        <c:noMultiLvlLbl val="0"/>
      </c:catAx>
      <c:valAx>
        <c:axId val="916201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97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3D16-E84E-48DF-9116-4136FBA71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8F5F-3207-4F8D-B245-2EE4C3B2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22CB-A50F-43BF-BB4E-6083B370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8F80-DFAE-4604-AE67-6FFE8F610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AF65-62AE-45CA-AC4E-A693879C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39A8-CE37-4C5C-9DE3-33516E27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318-4A1E-4EDC-98E1-07A1AC315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9F51-C94D-4065-BB8A-8B5F6514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8817-457D-421D-A539-432761D5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5864-A4B9-4FEE-BD48-7B413531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BD87-80D4-4F1D-97D5-A69C5717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AE21-6B22-4553-80B2-2DF5268C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37C1F-9B3C-4E97-B263-40FF8A7983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