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919665"/>
        <c:axId val="5004248"/>
      </c:barChart>
      <c:catAx>
        <c:axId val="79919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4248"/>
        <c:crosses val="autoZero"/>
        <c:auto val="1"/>
        <c:lblAlgn val="ctr"/>
        <c:lblOffset val="100"/>
        <c:noMultiLvlLbl val="0"/>
      </c:catAx>
      <c:valAx>
        <c:axId val="50042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19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19ED-A812-479F-A4EA-976B03FE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8316-1AA4-47E8-9AE1-40D8FC34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7E2E-26B5-4509-A08B-924E5FEB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CB9-FE34-48CB-AA3B-05EAA825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34EE-1536-47F1-832D-8CB64208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AC1-010E-4F81-B509-4E2F4FB4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BD0A-AB21-4C9B-9DDF-E8DA4710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10D0-3C9B-4E92-9BD5-8D461560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1D6-C637-4E56-A5B6-904A3CB7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51B-E422-4D7F-A23F-E6F36ACC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B594-ED48-4565-BA11-A588128F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44B-8B5A-44E1-8581-F7C06637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32469-53A3-4D84-AD6C-629A1895A5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