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54627"/>
        <c:axId val="81415933"/>
      </c:barChart>
      <c:catAx>
        <c:axId val="82354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5933"/>
        <c:crosses val="autoZero"/>
        <c:auto val="1"/>
        <c:lblAlgn val="ctr"/>
        <c:lblOffset val="100"/>
        <c:noMultiLvlLbl val="0"/>
      </c:catAx>
      <c:valAx>
        <c:axId val="81415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54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AA5-C4B9-444A-876C-8915C7E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A9C-CE2A-44B9-94EE-70B0BEA1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5AF-662D-4629-B1DE-60DEDB74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476-CF81-4BC5-B4F0-18D241FF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47D-FD4F-43ED-961F-0CC5F5FB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3E0-A6B1-4DE3-B0E9-7D172DC0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1F3-9C97-457B-8D1B-2DAD65B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3A6-C2D4-407B-A6E5-CDE5B098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2BE-1B7F-4BE2-A092-DD326BA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85B-DEA7-4AA7-8D6B-05614CA3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E31-8E7E-4402-9693-E5E3C7EB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22E-6500-4229-A325-DF390B89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3750F-570B-4A69-B890-FF7A468B58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