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63654"/>
        <c:axId val="27252520"/>
      </c:barChart>
      <c:catAx>
        <c:axId val="43063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2520"/>
        <c:crosses val="autoZero"/>
        <c:auto val="1"/>
        <c:lblAlgn val="ctr"/>
        <c:lblOffset val="100"/>
        <c:noMultiLvlLbl val="0"/>
      </c:catAx>
      <c:valAx>
        <c:axId val="27252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63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51B-72F0-4F48-BB3F-E400A067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C2E-C003-421F-96F6-F6CE2E7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1B1-6E47-4CEE-A765-290C6992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A9D-7BA2-4899-BB71-B6582EC8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E01-C064-48B3-86FB-89F3E65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D21-4A66-4D3F-9E03-B25BB5D0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775-A2E2-4A3D-8AF0-D0D7776C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756-847F-48EB-BF85-9D1D8A7F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DDF-100B-4C6E-884B-2655E09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589-DCFE-4D49-A619-A3A7C718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705-462F-46E1-BB7C-3A38FC3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79E-4789-4EA3-A978-B18EA37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55B39-45B5-4003-9F74-FCE3C5B0EF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