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9727207"/>
        <c:axId val="72046887"/>
      </c:barChart>
      <c:catAx>
        <c:axId val="6972720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046887"/>
        <c:crosses val="autoZero"/>
        <c:auto val="1"/>
        <c:lblAlgn val="ctr"/>
        <c:lblOffset val="100"/>
        <c:noMultiLvlLbl val="0"/>
      </c:catAx>
      <c:valAx>
        <c:axId val="7204688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72720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CF10F-065E-45D1-A6CD-DF2E9BDDB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A2711-E3E8-47A4-B184-D5A82EFEA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BC50C-87EE-4891-8FA3-47BF0163D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C88D8-EC6D-429E-A1B3-B91DF781C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EFD1D-E70F-4284-8E9A-33E2153B3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613C9-CAE5-49FD-BBDF-A1523E93A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EF76A-DFB3-48A6-B234-68BC5C7EC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B7C37-0FBC-41DF-B14B-18AB701AA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FF7AC-52B1-4A45-9322-CEFD4C65F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4A756-26A8-4022-96A5-7D5B52279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A18E3-5AC2-4296-BC5C-787F1CF49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9901C-0D97-4B5F-8A4A-C39CBB4EA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C54067-035A-4C95-BDE3-5C0E9A5ADFD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