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20834"/>
        <c:axId val="24556680"/>
      </c:barChart>
      <c:catAx>
        <c:axId val="91120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6680"/>
        <c:crosses val="autoZero"/>
        <c:auto val="1"/>
        <c:lblAlgn val="ctr"/>
        <c:lblOffset val="100"/>
        <c:noMultiLvlLbl val="0"/>
      </c:catAx>
      <c:valAx>
        <c:axId val="24556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20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053-B22E-4CE6-924B-359F3270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0AE-A905-475E-8444-A57D19E4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679-9C47-48E2-88FE-13F45020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343-8EF9-49FB-84EC-6F962A02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953-6FED-48B0-A5C1-D60B04D7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404-9A37-4176-B622-249B25B3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0AF-16C4-4C13-99FC-81DD402E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C94-F085-4584-910A-E7B8F66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8A4-739A-4814-87AF-44A4D9FB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789-D79C-4189-9667-B753945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BD3-A573-459D-B45C-5111142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A44-B669-4EBF-876E-E7935B4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E7B91-E23C-485B-A1C5-935DE3DBD5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