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97"/>
        <c:axId val="44313467"/>
      </c:barChart>
      <c:catAx>
        <c:axId val="17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13467"/>
        <c:crosses val="autoZero"/>
        <c:auto val="1"/>
        <c:lblAlgn val="ctr"/>
        <c:lblOffset val="100"/>
        <c:noMultiLvlLbl val="0"/>
      </c:catAx>
      <c:valAx>
        <c:axId val="44313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1D0-0F71-4C04-BC0A-4BA08F0B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2040-5A33-4784-AB89-3B87C6B2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DAE-6ED7-42D5-87AD-AC1FC04C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837-7666-4EDD-94F2-906767A5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3EE2-5163-487C-A613-4EEB8B46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E2F-6848-4191-87B7-147FB81F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7EB-8E80-4155-BD48-375F0DBA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D83B-09E6-4A0B-92F0-68C8F9CF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826-9B1D-40C6-8552-ADA9CD53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3BE-7A0C-4F25-A5D3-A6B3921C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486-F13D-4C3B-B437-342018D8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A99-679D-4B05-A818-2F6E0080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3ADC1-FA6B-4780-BFD2-F31A9F900F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