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545296"/>
        <c:axId val="96380546"/>
      </c:barChart>
      <c:catAx>
        <c:axId val="225452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80546"/>
        <c:crosses val="autoZero"/>
        <c:auto val="1"/>
        <c:lblAlgn val="ctr"/>
        <c:lblOffset val="100"/>
        <c:noMultiLvlLbl val="0"/>
      </c:catAx>
      <c:valAx>
        <c:axId val="963805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452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48A0-ECB4-42D5-B245-56453A5B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F6BA-0307-4218-81D6-6864F4D7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AE64-557C-451E-B13C-3B317E5F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944D-112C-4A2F-9E54-02FA0EEEE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22C0-1433-4191-B3C4-B329022E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19A7-7D20-442D-9036-8CB2F990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009F-979C-42B5-966B-0D6A38F1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9024-B877-41A7-B277-8C904E92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BA29-6D2E-4DD4-B379-345A382E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26F6-579A-4B7B-8CCC-1114A414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CCAD-F6CD-4C3A-A1FC-53FB0861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4C5E-74CF-4BC0-8DF4-48A2B58E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AAF6F-C2D3-4378-82F2-4B57F02B49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