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05646"/>
        <c:axId val="86879018"/>
      </c:barChart>
      <c:catAx>
        <c:axId val="46605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79018"/>
        <c:crosses val="autoZero"/>
        <c:auto val="1"/>
        <c:lblAlgn val="ctr"/>
        <c:lblOffset val="100"/>
        <c:noMultiLvlLbl val="0"/>
      </c:catAx>
      <c:valAx>
        <c:axId val="86879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5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67A-B93B-4159-946E-6167ECB2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12-C2DC-4507-8111-80AEC257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994-5BAF-440A-927C-1BDCF4DC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481-2B17-4376-BEB8-0827B88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FEE-2FE3-46AE-924B-A5C52042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CA8-2A54-474B-98C1-19DD0A9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FDC-3171-4600-ACA4-7C9870BB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5FB-3410-48F9-8CA5-7F93EF2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B34-0EEF-4EB5-9972-F0D90B18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D15-B4A3-43EF-AAC5-2BB525C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9A5-A641-4D73-8C30-F9CFF0D7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0FB-5DC1-45C6-A5B4-A935A28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FFCE-0CAD-47C7-81DF-E81BA5DAD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