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70469"/>
        <c:axId val="55695423"/>
      </c:barChart>
      <c:catAx>
        <c:axId val="48470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95423"/>
        <c:crosses val="autoZero"/>
        <c:auto val="1"/>
        <c:lblAlgn val="ctr"/>
        <c:lblOffset val="100"/>
        <c:noMultiLvlLbl val="0"/>
      </c:catAx>
      <c:valAx>
        <c:axId val="55695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70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F32-1146-4AAC-8ACD-18DEBBA5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BA5-5189-4A23-93AB-8D69948F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DB6-0505-418E-81F2-CB1499A0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269-6283-4FA3-8970-158AC294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488-6834-43D3-B364-12C8572F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D7E-5661-4030-9F5F-C7F16019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27E-2A57-47AC-9A2E-372BFB27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F18-5558-4EA2-AFFC-4BFC7963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06AF-FDE9-453A-8A51-AEB1D686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C7B-A1B3-4AE2-BEE8-B5961DC2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168-86CF-4A36-9223-7FAA57F2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AE4-E466-47C5-9C2A-9666BEB0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99B73-3E2A-4B51-91AB-7E7443AC21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