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07492"/>
        <c:axId val="6237606"/>
      </c:barChart>
      <c:catAx>
        <c:axId val="432074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7606"/>
        <c:crosses val="autoZero"/>
        <c:auto val="1"/>
        <c:lblAlgn val="ctr"/>
        <c:lblOffset val="100"/>
        <c:noMultiLvlLbl val="0"/>
      </c:catAx>
      <c:valAx>
        <c:axId val="62376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074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7116-E528-4F86-8FB7-B5D46657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6E09-0429-4F97-B237-77F7DEA7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BA1A-04B7-43F0-A46D-503B878F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1C4F-EA1B-4896-ACDB-57487088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446E-0C48-4863-AA04-CD3722DD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D5A3-6128-461B-B1E7-89D15D51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C2F7-D4DF-4F13-9F1A-C76AB73A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7C36-85C6-4F36-87FF-5671BABF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FB9A-BC9E-4543-B1A3-550AC072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F4AB-B64F-4A0B-BAA7-45692361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6A1-FF1B-46F5-BD3C-69F1D115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8D83-0C6D-406A-9462-AA7266B0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A6E25-1CDB-43D1-B857-C561668E34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