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94876"/>
        <c:axId val="42008454"/>
      </c:barChart>
      <c:catAx>
        <c:axId val="92694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08454"/>
        <c:crosses val="autoZero"/>
        <c:auto val="1"/>
        <c:lblAlgn val="ctr"/>
        <c:lblOffset val="100"/>
        <c:noMultiLvlLbl val="0"/>
      </c:catAx>
      <c:valAx>
        <c:axId val="42008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94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305-1EEA-4325-A3CF-37077EA9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124-73BF-4E1F-94E9-173263E9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050-8431-4D22-8AC8-B8A4ECEA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638-29AA-41D7-B641-394683B4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D11-13F2-4E6C-B1F9-87BADCBA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86E-1DAA-4F3B-8A61-CDBD7ED7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C64-BEEE-44C6-B38B-1C13F014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6EF-2B86-406B-95A8-5CC6852A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A38-C61B-4A2C-BB67-F0BDC67F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556-16FF-4348-ADBE-A24FBBD9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48C-3B5A-49A2-8E3A-BD21139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B48-4868-4854-B891-8329A528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8E1E1-C89A-4F8E-9EDA-FB7597FA25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