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09129"/>
        <c:axId val="52009447"/>
      </c:barChart>
      <c:catAx>
        <c:axId val="80009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9447"/>
        <c:crosses val="autoZero"/>
        <c:auto val="1"/>
        <c:lblAlgn val="ctr"/>
        <c:lblOffset val="100"/>
        <c:noMultiLvlLbl val="0"/>
      </c:catAx>
      <c:valAx>
        <c:axId val="52009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09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D1B-7F20-47D6-8B15-9893E507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6F0-38EE-46E5-AD62-01E86962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AB8-726A-45CC-854C-870EB515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766-25AB-487B-AF15-22F36E1E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463-D1D9-4B0A-81E9-8B154049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080-BA7E-4FCC-B39E-C41B9E5F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912-723E-443C-AAC5-B67F383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9B6-4426-4C12-8A5B-5EAA381B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14B-93F0-4793-9BF0-5B4D69FA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586-D582-425A-992E-CA23725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7F4-AE50-4667-8385-0BB62158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E67-3AD4-49BD-A0B9-747576B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F2FF8-7953-4B15-B650-60673A3119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