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084228"/>
        <c:axId val="14951390"/>
      </c:barChart>
      <c:catAx>
        <c:axId val="880842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51390"/>
        <c:crosses val="autoZero"/>
        <c:auto val="1"/>
        <c:lblAlgn val="ctr"/>
        <c:lblOffset val="100"/>
        <c:noMultiLvlLbl val="0"/>
      </c:catAx>
      <c:valAx>
        <c:axId val="149513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842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0BF3-076F-45D5-8BB5-EC3E1877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CCD5-9857-47C3-B486-9E85A12A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C3E9-1396-49D0-827D-83252AA6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2AE5-ED50-43AC-999C-E17CA876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B70B-2124-4071-AEDA-B0202D87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EBBF-AA0C-45D7-914D-94482E0A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57FE-3DA0-4C30-B137-25F531AD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96A6-76EC-46EC-BA11-395BB8AA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219F-6DAB-40EF-8C8A-E25EE532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597A-5187-425A-B678-0D59B634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98C0-633D-4971-8E3C-A3253C7E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FBBA-7167-4789-996D-229E8429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A8F3C-9624-4837-9423-DCE0EE476A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