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94288"/>
        <c:axId val="43445050"/>
      </c:barChart>
      <c:catAx>
        <c:axId val="33994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45050"/>
        <c:crosses val="autoZero"/>
        <c:auto val="1"/>
        <c:lblAlgn val="ctr"/>
        <c:lblOffset val="100"/>
        <c:noMultiLvlLbl val="0"/>
      </c:catAx>
      <c:valAx>
        <c:axId val="43445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94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BC3-8FD3-4B54-BF71-BDFD366B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1A6-E821-4A41-BBBC-16F647E8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CD0-68CF-49E1-8B6A-06BCC48A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B02-D000-4C0F-861B-AAD131F5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FEB-7550-4DDC-A6A3-A8A4D088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F6B-C8A9-495B-82D6-5ABBDDB0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6B1-B2BB-4A9E-B3FE-7D968513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97B-5A25-4474-9EFB-B71BC3EF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235-E04A-4A9D-B5B2-86398246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65F-FD56-43CC-A4A4-4D49190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2A8-9F75-47C1-AE23-F2021E0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2A9-4055-4CFA-AC44-A272F478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B1783-8A38-4A14-AE15-E713A0004E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