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73467"/>
        <c:axId val="37849348"/>
      </c:barChart>
      <c:catAx>
        <c:axId val="97073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49348"/>
        <c:crosses val="autoZero"/>
        <c:auto val="1"/>
        <c:lblAlgn val="ctr"/>
        <c:lblOffset val="100"/>
        <c:noMultiLvlLbl val="0"/>
      </c:catAx>
      <c:valAx>
        <c:axId val="37849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3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9E0-34A7-435B-ADD3-C3096BB4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F38-7A4C-43E3-A06D-03F9FD42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905-9445-42EA-B929-F91FA2EB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4A7-3A7F-4232-94AB-A35CB710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C1D-1DE7-4003-AF6F-69AC623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0E4-0877-4D5F-AF9A-AA13D38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D8D-8197-4CD5-998B-43501411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F56-E93C-48C2-8344-167AA87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949-046B-41C9-B970-B16745E9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FAD-4BBA-44D0-9565-51546FF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ECD-FF01-49A9-B4CB-0C83416E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5D7-C11A-481B-A648-8F09796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244C5-4264-401C-B2BC-FE53B8E15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