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44513"/>
        <c:axId val="53886689"/>
      </c:barChart>
      <c:catAx>
        <c:axId val="65344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86689"/>
        <c:crosses val="autoZero"/>
        <c:auto val="1"/>
        <c:lblAlgn val="ctr"/>
        <c:lblOffset val="100"/>
        <c:noMultiLvlLbl val="0"/>
      </c:catAx>
      <c:valAx>
        <c:axId val="53886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44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5B0-0EF6-4325-ABD7-F2D49093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31B-9B04-47A2-AB6E-650BCF22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D2D-6FB9-44A4-877A-8EE86F16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C1A-0B72-4FBF-BADE-D8471792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337-4C0B-4D7F-B20E-0E6C8D1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92C-C08D-45F5-8F64-E2172015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F1E-7072-4E24-98C8-8127475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504-81DA-41B6-8554-A25DAB2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802-94A1-4593-9559-CD3AB12A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FC8-FDC0-4EA5-AE6F-41D1A1B3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F71-85BE-42A7-8ADD-6CC05E1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C19-D921-4649-B626-DEC16320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F5148-7E8C-428C-B5D5-1B4933B328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