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340795"/>
        <c:axId val="52408255"/>
      </c:barChart>
      <c:catAx>
        <c:axId val="343407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408255"/>
        <c:crosses val="autoZero"/>
        <c:auto val="1"/>
        <c:lblAlgn val="ctr"/>
        <c:lblOffset val="100"/>
        <c:noMultiLvlLbl val="0"/>
      </c:catAx>
      <c:valAx>
        <c:axId val="524082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3407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9E20-E4E5-4913-BE93-E509602AD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08F1-50A3-42FC-A59E-0F525C6FD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BFAB-37EB-48EF-BF64-FFC2986F0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BB22-54F5-4F9A-8512-82E505C05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6DAD-7FE0-43A8-8649-B1D994140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845E-38CD-444A-9C4C-984EBDD20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23D3-4E44-4982-A601-967E89213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99D1-6CD3-4EA2-BC78-928B297F2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AE3C-5EF2-449B-BD94-E40749781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7A52-4428-45AF-AE68-A836653A1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A0F6-04F2-4D61-9098-6947FE0C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F952-2D69-4CE7-8D2F-2DC0BBCB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7DB50A-8466-4591-AD3A-68184374073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