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72030"/>
        <c:axId val="43072206"/>
      </c:barChart>
      <c:catAx>
        <c:axId val="93172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72206"/>
        <c:crosses val="autoZero"/>
        <c:auto val="1"/>
        <c:lblAlgn val="ctr"/>
        <c:lblOffset val="100"/>
        <c:noMultiLvlLbl val="0"/>
      </c:catAx>
      <c:valAx>
        <c:axId val="43072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72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63F-95F3-4543-B797-179CBDEC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5A3-E5E5-4AC7-84F3-BD75DC84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F6B-E847-4196-811A-5C2A79E6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98A-9668-472F-92CD-2657EF26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E55-6DC1-4984-AA67-DD239F41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8CE-64C1-4B21-978B-7C972DE2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E28-6557-4920-B9C8-F0874A4E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4C5-4F12-46DA-ADF6-31A834E8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559-01B1-4351-9B0D-CCA9161E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DC1-5042-4DFE-B615-B8438D0B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0ED-02A7-427F-99B7-E3ED14BD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18D-4504-4C18-8813-ED179242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EBAA8-1ECB-4A99-8184-04D12BB5AC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