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23577"/>
        <c:axId val="90612113"/>
      </c:barChart>
      <c:catAx>
        <c:axId val="5572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2113"/>
        <c:crosses val="autoZero"/>
        <c:auto val="1"/>
        <c:lblAlgn val="ctr"/>
        <c:lblOffset val="100"/>
        <c:noMultiLvlLbl val="0"/>
      </c:catAx>
      <c:valAx>
        <c:axId val="90612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DF5-D2E7-40BE-A545-3744FCA6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8DE-0867-4C22-BD4A-E367F3F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871-7B1C-4F04-94CA-1F9F4FF5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951-2D60-48EF-A2E9-72AF09D1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05B-FB7C-4B7E-B752-DC828146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831-B8FF-44FE-B58F-A174C89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680-1C58-41F0-84F6-8BA2AE56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2CA-CBE4-480C-8D73-AF40134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D19-5F6A-4220-B6D2-946C0726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3B1-5F41-4CAA-B5EC-4BB3AE5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BD7-9D77-49C5-8BF6-AEC76FB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DEA-983D-4A15-9817-781D93E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0AF0-580C-43D2-A15C-80ABE57BE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