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12414"/>
        <c:axId val="67946526"/>
      </c:barChart>
      <c:catAx>
        <c:axId val="92512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46526"/>
        <c:crosses val="autoZero"/>
        <c:auto val="1"/>
        <c:lblAlgn val="ctr"/>
        <c:lblOffset val="100"/>
        <c:noMultiLvlLbl val="0"/>
      </c:catAx>
      <c:valAx>
        <c:axId val="679465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12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2E2-8C05-4913-A663-1BC2DB6D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4CD-6075-486A-AB80-04E89B28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9E78-85DF-4074-A3B3-F58B3A34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C416-A749-4E3D-BC57-748A37DA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1B1-5CB9-4645-99D1-3CEBDBC1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2D0-562E-47CC-8D92-B2191D60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6C6F-84C2-4FDB-B1C4-88A3003E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F76-8D45-4D30-B154-8983033D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004B-AA9B-48A7-928A-9E8EF99A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9CA0-E2FF-49B9-8307-AB9BB381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315-D8F4-43F4-A128-8E9ECC44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B1BA-54DF-4DC9-917C-037F78AA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AEE95-4A68-4836-A447-9FE709075D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