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502431"/>
        <c:axId val="85293217"/>
      </c:barChart>
      <c:catAx>
        <c:axId val="965024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293217"/>
        <c:crosses val="autoZero"/>
        <c:auto val="1"/>
        <c:lblAlgn val="ctr"/>
        <c:lblOffset val="100"/>
        <c:noMultiLvlLbl val="0"/>
      </c:catAx>
      <c:valAx>
        <c:axId val="852932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5024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704D-FDCC-4260-90FE-6FA0EEE4D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A5FD-DF05-482C-8E3A-CEF97CB8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AAE7-B68A-471D-A006-85636182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4C48-8EF3-4E91-A819-0DED39622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ABDD-943D-48D8-A7BE-8E69806A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F5C1-85DE-4FF2-AC8E-2BC8ADFF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5CB8-6F95-435E-BCD2-1744B358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6841-FF96-4E2C-8C29-275C09D1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B556-42A8-4504-B828-BACF3666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EBC2-EA4C-4E69-8F60-47C9D625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0BA1-C08B-4530-91DD-1BCD1C66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4477-056E-49F8-870C-AE9EE377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A0AC86-3004-40DE-B98E-F732292CD2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