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162415"/>
        <c:axId val="23122785"/>
      </c:barChart>
      <c:catAx>
        <c:axId val="571624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22785"/>
        <c:crosses val="autoZero"/>
        <c:auto val="1"/>
        <c:lblAlgn val="ctr"/>
        <c:lblOffset val="100"/>
        <c:noMultiLvlLbl val="0"/>
      </c:catAx>
      <c:valAx>
        <c:axId val="231227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624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A89-4F6A-434B-B5BB-9ACAD898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A727-40F1-4EC4-B95D-A72112B6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0487-79C4-4E5B-8791-818F8549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F32-C03A-4190-9403-17C13BA0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F4FA-AF1A-4E73-ACB4-12CE5822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63D2-77B0-4875-92B6-B1A8F263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FEF-576F-4555-B2F2-CAA07F0E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2D78-1747-4FFB-8AD8-842DA293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16E-8314-418B-BEFA-4B3DF90F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263-8F3D-437A-BEA6-65C57E11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8B27-86B7-4DB2-8168-84B76404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1238-6354-433C-AF46-0D3D581E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56DC8-231B-4EF1-9A37-72ECB377B2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