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03652"/>
        <c:axId val="11667901"/>
      </c:barChart>
      <c:catAx>
        <c:axId val="98303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67901"/>
        <c:crosses val="autoZero"/>
        <c:auto val="1"/>
        <c:lblAlgn val="ctr"/>
        <c:lblOffset val="100"/>
        <c:noMultiLvlLbl val="0"/>
      </c:catAx>
      <c:valAx>
        <c:axId val="11667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03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05C-4A74-427A-9C28-A48198B7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020-2B26-4C59-8463-7851A574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7CA-039A-47AF-991B-9FA25AFE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168-1C45-4DDD-911C-DB660F06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664-4C51-461D-82AD-23673583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C0D-07AC-4CA5-816D-CFDCEC6D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FFA-EF41-4862-A909-9C3628C0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D3B-9712-4E59-9FDC-6E8423BC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067-D685-4874-A61C-AE7D8D9C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2D9-3F90-4BFE-AE7F-64AF8096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5C0A-59A8-481D-B927-365C6E15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4BF-9197-4EF2-B56D-0FB6414B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E116B-5331-40E2-9AB9-DA8FEB28D4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