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65455"/>
        <c:axId val="12677493"/>
      </c:barChart>
      <c:catAx>
        <c:axId val="73665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7493"/>
        <c:crosses val="autoZero"/>
        <c:auto val="1"/>
        <c:lblAlgn val="ctr"/>
        <c:lblOffset val="100"/>
        <c:noMultiLvlLbl val="0"/>
      </c:catAx>
      <c:valAx>
        <c:axId val="12677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65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FFE-B752-46C8-A061-327E9209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A28-0356-4102-A8E6-0B6A682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7A3-5702-4648-96B0-0FE039B8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AA0-E798-4B81-872C-6DA0A48E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EF7-104F-4793-A8A1-45FE89B8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964-9225-4619-A24F-2A8F4F6D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86C-CAF7-4CD8-9894-1783ED7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B11-CDFA-4622-92BF-AE2E564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1B4-A028-4DEB-BBE6-C397409A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6EE-21FA-428C-9565-4A6D947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876-E253-464B-9A9B-41C6FEA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D6D-CB41-412C-B299-E16DC53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14ED-59E3-4E0C-AC91-BF0978D63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