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51401"/>
        <c:axId val="8053200"/>
      </c:barChart>
      <c:catAx>
        <c:axId val="46151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3200"/>
        <c:crosses val="autoZero"/>
        <c:auto val="1"/>
        <c:lblAlgn val="ctr"/>
        <c:lblOffset val="100"/>
        <c:noMultiLvlLbl val="0"/>
      </c:catAx>
      <c:valAx>
        <c:axId val="8053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1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368-5B13-4E19-9DFA-A7200907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33E-0CD3-471B-B824-DFBB046B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AB8-8A8E-4AD4-A866-06F072D8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0CA-4E17-471A-99F9-DAD6C4EE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0FC-B27D-4314-9762-D4D3B295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F44-AFEF-4C51-BE55-48C93FBC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92F-B86F-47EA-B84A-5E1779CB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5FC-ED2A-467D-ADFA-30A25D3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C79-AAF8-4899-BE30-0E7F75E1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CAC-2406-4059-9C09-E091E548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9D1-A6E2-4D8E-BB2E-96EC2FD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25A-1DCD-4E0A-8BE7-2C78C47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78A98-C243-4714-B2EF-47DF38616A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