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90972"/>
        <c:axId val="65861284"/>
      </c:barChart>
      <c:catAx>
        <c:axId val="95890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61284"/>
        <c:crosses val="autoZero"/>
        <c:auto val="1"/>
        <c:lblAlgn val="ctr"/>
        <c:lblOffset val="100"/>
        <c:noMultiLvlLbl val="0"/>
      </c:catAx>
      <c:valAx>
        <c:axId val="658612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90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0B53-784A-4F7D-94B6-9C91D01E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A34-B01F-46B2-8229-EAE59BA9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F51-C8AB-46F6-B7EB-8A5A37C8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9E07-8D7F-4C54-AE64-5EF08BDC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F7C-34F2-4B0D-80B8-F6F0D70D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422-36D2-4AEA-9EAA-FC9F3234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97A-4F47-4ED9-A2B1-AE9AB2EC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36BE-CC3F-4417-81C9-F0141E78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753-A110-424F-8E15-DCA9BDF0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5A44-7758-45F3-90F1-500DC41D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0FAF-A89B-44C2-B423-1B5A0789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470-B5A1-4C0E-9B3C-E883030E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6AF57-A5F2-430E-A804-6DC129AAA4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