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99884"/>
        <c:axId val="39900250"/>
      </c:barChart>
      <c:catAx>
        <c:axId val="84499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00250"/>
        <c:crosses val="autoZero"/>
        <c:auto val="1"/>
        <c:lblAlgn val="ctr"/>
        <c:lblOffset val="100"/>
        <c:noMultiLvlLbl val="0"/>
      </c:catAx>
      <c:valAx>
        <c:axId val="39900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99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B66-7351-4066-9045-0952C483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8CF-2E03-44F2-95F3-16FB8AC8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14B-7DEB-405E-84E3-C3AADF99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35D-3320-4B81-A2AE-BDBC2CCA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734-440C-4430-8002-3923134C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A5A-C2A7-420A-B11D-C3B5EC55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38F-6022-4BB1-A547-CCACEAE3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61A-3199-4294-8BA4-175324F6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9B5-E4CC-4FDB-92B1-933E5BEB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53D-1549-4D69-816A-4D06FF6B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736-7ECD-4841-851B-10FC7A1C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296-993F-487B-9EA3-2400CF35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414A0-E407-4476-A076-638367C9F9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