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53631"/>
        <c:axId val="72214237"/>
      </c:barChart>
      <c:catAx>
        <c:axId val="22153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14237"/>
        <c:crosses val="autoZero"/>
        <c:auto val="1"/>
        <c:lblAlgn val="ctr"/>
        <c:lblOffset val="100"/>
        <c:noMultiLvlLbl val="0"/>
      </c:catAx>
      <c:valAx>
        <c:axId val="72214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53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A29-E674-43DB-B3F4-8C612BB1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08D-A993-4C78-9B6B-D2EC908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E24-6050-401A-8633-0167C49C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079-888E-42EF-AE77-A28C5198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E90-B820-4530-9BD9-D6E5A44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C54-2548-4696-9A3F-610B1528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706-EA58-4E72-B2A6-B86E23DE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644-18F2-42D9-8126-ABE0B419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6C2-51D3-493F-A186-FB76F16D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ECC0-83D8-4F53-BA70-D01840B0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C7C-0A90-4170-9C22-8C4C2344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0C3-D10D-417D-B0CB-D6E4700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D121B-9BFA-4831-924A-2C35E3916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