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258371"/>
        <c:axId val="5789039"/>
      </c:barChart>
      <c:catAx>
        <c:axId val="142583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9039"/>
        <c:crosses val="autoZero"/>
        <c:auto val="1"/>
        <c:lblAlgn val="ctr"/>
        <c:lblOffset val="100"/>
        <c:noMultiLvlLbl val="0"/>
      </c:catAx>
      <c:valAx>
        <c:axId val="57890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583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DF69-81A3-45CC-978E-2FFC4C88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AFF5-868A-4B31-B266-C3236F63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353D-8194-4A7B-A556-82D99E10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13F3-15D2-49A6-9EA5-8C828BA3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57AF-82AD-4C91-B49E-48A94F7B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A35E-0BBD-4BC9-A63E-CDCA10C1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211F-2B8E-44FD-A2AA-C7049712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5A3D-3F1F-4453-805B-84B40DE2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6869-4735-4C27-8883-42C79178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7FFE-D832-44DD-BF08-FD9B860D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02DC-0EED-4897-9D79-8E26CED9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5174-59D2-4967-AFDC-4F7DD131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6438E-EEA1-40B6-A5EB-8BCE2483B6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