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28832"/>
        <c:axId val="56132784"/>
      </c:barChart>
      <c:catAx>
        <c:axId val="22028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32784"/>
        <c:crosses val="autoZero"/>
        <c:auto val="1"/>
        <c:lblAlgn val="ctr"/>
        <c:lblOffset val="100"/>
        <c:noMultiLvlLbl val="0"/>
      </c:catAx>
      <c:valAx>
        <c:axId val="56132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8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3A6-8DF3-467F-ACC3-D29B5995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813-7CDF-4703-A005-76E30F23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B45-ED75-41F9-8721-39F617E2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5A9-E3B4-4353-8EAD-BAF843B9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8C3-CECE-45BC-9CE6-FD848645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9FD-A81C-46F7-95E0-97CA7552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24F-052E-4636-BAB2-09F919B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DF3-EC21-4C76-9A3B-6E3A9361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346-443B-40E4-AD91-28332690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ED6-F601-4891-BF7F-F0F2BA36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E2E-6153-49FB-8DA6-D8DDD61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768-2E75-4E67-B3B0-01D9CA0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E1A58-60D4-4532-BD25-D229D353F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