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04429"/>
        <c:axId val="5831708"/>
      </c:barChart>
      <c:catAx>
        <c:axId val="50904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1708"/>
        <c:crosses val="autoZero"/>
        <c:auto val="1"/>
        <c:lblAlgn val="ctr"/>
        <c:lblOffset val="100"/>
        <c:noMultiLvlLbl val="0"/>
      </c:catAx>
      <c:valAx>
        <c:axId val="5831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04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D80-1D3B-4032-9773-402C8E38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2DB-C3EB-41F7-9CA4-27DE2D50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C862-EE6D-4598-BAC9-44EC5270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4D70-A96B-4D16-8F79-E3D3E455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7EC-5302-4735-8710-E23F0446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9FD-9497-4D62-93EC-B2E1EE10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B69-9B76-4754-9AB3-7BDCE5E3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A6E-F37E-4B5D-84BF-11C0761E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4AC-262D-400F-8F52-338D24A6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801-2102-46CE-A7C7-3794F1D0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5F1-CC29-4914-8787-5CC0118E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902-E92A-4905-A394-FDE996CF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DB327-9123-42C8-8047-24A9DA9015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