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395154"/>
        <c:axId val="79390373"/>
      </c:barChart>
      <c:catAx>
        <c:axId val="813951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90373"/>
        <c:crosses val="autoZero"/>
        <c:auto val="1"/>
        <c:lblAlgn val="ctr"/>
        <c:lblOffset val="100"/>
        <c:noMultiLvlLbl val="0"/>
      </c:catAx>
      <c:valAx>
        <c:axId val="793903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951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C9D8-5441-4F60-AC58-3FD25CE9F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FF68-319B-466E-82F3-D1B7DB45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1560-23F4-4A8B-A6A4-00C8FA3B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22DE-63CB-4A6B-AC99-795D877DD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1EFB-1349-4B29-B8A2-3DE89011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C9BF-9010-4894-96BD-85065F91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A278-669B-4F2C-A3C0-F9ED8175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CC94-CB8A-480A-8AD5-4D65AC55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96A1-3C76-4D1C-B6DC-019C46F6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771B-323B-44EA-83BC-C26BBDB9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29C9-0F04-4E38-A2FC-30C325AF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0E31-37DF-4B10-BAE0-35883917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6C10F-2CEE-4233-82D8-1DF10CA493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