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22437"/>
        <c:axId val="62246835"/>
      </c:barChart>
      <c:catAx>
        <c:axId val="33822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6835"/>
        <c:crosses val="autoZero"/>
        <c:auto val="1"/>
        <c:lblAlgn val="ctr"/>
        <c:lblOffset val="100"/>
        <c:noMultiLvlLbl val="0"/>
      </c:catAx>
      <c:valAx>
        <c:axId val="6224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22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BB1-547F-4092-8F37-15F609DD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63B-E0AC-448F-82D5-40AE113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9AE-591D-4BE5-971A-81E2F510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A17-C41A-43B4-85F8-DCAF58BE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545-3F2B-40A8-AC30-266304C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CFB-A0AE-437C-9FB1-F6EC328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7B2-E4DA-4A8B-B777-FCE28E58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D58-645E-4B13-B77F-4A5FECC1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63F-AB91-4574-BDDC-FECD53DA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FA0-733E-41AD-9929-9A71C16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14E-BBD1-4E6E-8308-E6E9004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4EB-7C05-4F03-B9A2-BD65B51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B32DC-C469-4D3E-A2FE-F6587324C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