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125160"/>
        <c:axId val="28988399"/>
      </c:barChart>
      <c:catAx>
        <c:axId val="271251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988399"/>
        <c:crosses val="autoZero"/>
        <c:auto val="1"/>
        <c:lblAlgn val="ctr"/>
        <c:lblOffset val="100"/>
        <c:noMultiLvlLbl val="0"/>
      </c:catAx>
      <c:valAx>
        <c:axId val="289883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1251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CF43-3213-4234-9C15-E7436E1DA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3A78-C632-4CE8-8EEA-3C82B1F8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9546-A89D-45BD-9FA3-60E43CB9C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FBB4-CECC-49F9-981A-F4C0C1934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9F95-8DFF-475E-BC09-196BB818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2835-1426-4F2B-B36C-FCE40945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EBB5-B311-468A-95AE-AEC9454F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D5D2-3053-490B-AC5A-2FE87ADB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79F3-A283-4FFF-A5F1-C985D2A2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2CA2-EA14-4863-9FA4-CBA7EBAE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D175-3A88-4678-AC38-E1760B7F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9381-6625-4963-BBCD-EC17571F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B596DD-857B-458B-8319-61912033F6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