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9795"/>
        <c:axId val="93021726"/>
      </c:barChart>
      <c:catAx>
        <c:axId val="37339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1726"/>
        <c:crosses val="autoZero"/>
        <c:auto val="1"/>
        <c:lblAlgn val="ctr"/>
        <c:lblOffset val="100"/>
        <c:noMultiLvlLbl val="0"/>
      </c:catAx>
      <c:valAx>
        <c:axId val="93021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9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D3D-830C-460A-B03B-7A2EFC8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973-9B82-47C8-ACC3-A6C0B49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24C-A3B9-4A6E-BB5B-3E31586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AF5-6621-4908-8476-8BB2632D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C5E-10BA-4865-90CB-BBFD8B3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A0B-402C-42E2-912E-4E4F046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428-3479-475D-A329-E341087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870-9A71-4340-AEFA-8CB4B1D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77F-D46F-4EE4-9D89-5A149D49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1E2-C055-43E9-9BE8-1C4C012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C27-8213-4B3B-8EAB-2637CD7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B6D-704B-4F45-B982-D659355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E2F6-9317-4358-AAD7-AF9276A3F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