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28754"/>
        <c:axId val="67400432"/>
      </c:barChart>
      <c:catAx>
        <c:axId val="787287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00432"/>
        <c:crosses val="autoZero"/>
        <c:auto val="1"/>
        <c:lblAlgn val="ctr"/>
        <c:lblOffset val="100"/>
        <c:noMultiLvlLbl val="0"/>
      </c:catAx>
      <c:valAx>
        <c:axId val="67400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287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ADE-B501-4923-99FD-E2040911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BA4-6C1C-49E2-A4D1-F847F0B4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A03-F493-4EC7-9D19-7CA497B4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9C9-C080-44F9-A803-5521C974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A4EA-6F76-4F47-B24D-8B2E94CE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106-1DAA-4833-8909-4356C06B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F84-5DDF-41A7-AE83-A5B22A14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C76-5EAD-469D-B9E1-2593F1FC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89C2-EC30-4993-AC9D-D6370C41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9EF-49AD-44A8-8F46-48DF2CD1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A61-5715-4B7F-96BC-735852F0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694-CE6D-4E1E-B8FC-E377D328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37E99-B744-40B1-8A97-7A685BA2A4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