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83223"/>
        <c:axId val="81935575"/>
      </c:barChart>
      <c:catAx>
        <c:axId val="98883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35575"/>
        <c:crosses val="autoZero"/>
        <c:auto val="1"/>
        <c:lblAlgn val="ctr"/>
        <c:lblOffset val="100"/>
        <c:noMultiLvlLbl val="0"/>
      </c:catAx>
      <c:valAx>
        <c:axId val="81935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83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452-E50B-45CA-851F-EC29902A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7C5-616E-41E6-971F-914AAC67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0E3-DC92-41CD-8862-14757437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631-B0C0-4E0A-9AB1-A75B9120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4EF-6195-41C2-9DDC-6E8E1A32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F00-7DC6-48B3-ACC7-64B31F75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706-E9AC-4184-881A-380FBDCB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511-0B42-43EC-A1D9-C127E79D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B7C-2876-4B9D-99A0-3C71613F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3DB-7A1E-4AE3-8A8E-8960972A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B4D-225D-4C54-B968-EC0E24D4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05C-55EB-481A-8F6D-E718935F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012AE-C06A-4B15-97AA-32CCD3CE22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